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date/time&gt;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3A6B-B2DE-4F8F-AA22-C014C5136828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5BA8-EFB5-4839-99AE-095935EEB191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DF14-9318-41E9-B069-9AB41E66E45E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3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0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Line 301"/>
          <p:cNvSpPr/>
          <p:nvPr/>
        </p:nvSpPr>
        <p:spPr>
          <a:xfrm>
            <a:off x="3995640" y="3757680"/>
            <a:ext cx="503280" cy="720720"/>
          </a:xfrm>
          <a:prstGeom prst="line">
            <a:avLst/>
          </a:prstGeom>
          <a:ln w="76320">
            <a:solidFill>
              <a:srgbClr val="0056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9" name="Line 300"/>
          <p:cNvSpPr/>
          <p:nvPr/>
        </p:nvSpPr>
        <p:spPr>
          <a:xfrm>
            <a:off x="4140360" y="3757680"/>
            <a:ext cx="502920" cy="720720"/>
          </a:xfrm>
          <a:prstGeom prst="line">
            <a:avLst/>
          </a:prstGeom>
          <a:ln w="76320">
            <a:solidFill>
              <a:srgbClr val="0056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0" name="Rectangle 298"/>
          <p:cNvSpPr/>
          <p:nvPr/>
        </p:nvSpPr>
        <p:spPr>
          <a:xfrm>
            <a:off x="2484360" y="4164120"/>
            <a:ext cx="6659640" cy="215640"/>
          </a:xfrm>
          <a:prstGeom prst="rect">
            <a:avLst/>
          </a:prstGeom>
          <a:solidFill>
            <a:srgbClr val="0056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1" name="Rectangle 193"/>
          <p:cNvSpPr/>
          <p:nvPr/>
        </p:nvSpPr>
        <p:spPr>
          <a:xfrm>
            <a:off x="4346640" y="3662280"/>
            <a:ext cx="18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Rectangle 297"/>
          <p:cNvSpPr/>
          <p:nvPr/>
        </p:nvSpPr>
        <p:spPr>
          <a:xfrm rot="10800000">
            <a:off x="0" y="4246200"/>
            <a:ext cx="9144000" cy="1487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3" name="Freeform 296"/>
          <p:cNvSpPr/>
          <p:nvPr/>
        </p:nvSpPr>
        <p:spPr>
          <a:xfrm>
            <a:off x="-9360" y="3949560"/>
            <a:ext cx="9153360" cy="2908440"/>
          </a:xfrm>
          <a:custGeom>
            <a:avLst/>
            <a:gdLst/>
            <a:ahLst/>
            <a:rect l="l" t="t" r="r" b="b"/>
            <a:pathLst>
              <a:path w="5746" h="2159">
                <a:moveTo>
                  <a:pt x="5746" y="2159"/>
                </a:moveTo>
                <a:lnTo>
                  <a:pt x="0" y="2159"/>
                </a:lnTo>
                <a:lnTo>
                  <a:pt x="0" y="0"/>
                </a:lnTo>
                <a:lnTo>
                  <a:pt x="31" y="35"/>
                </a:lnTo>
                <a:lnTo>
                  <a:pt x="69" y="76"/>
                </a:lnTo>
                <a:lnTo>
                  <a:pt x="132" y="125"/>
                </a:lnTo>
                <a:lnTo>
                  <a:pt x="212" y="184"/>
                </a:lnTo>
                <a:lnTo>
                  <a:pt x="316" y="254"/>
                </a:lnTo>
                <a:lnTo>
                  <a:pt x="375" y="289"/>
                </a:lnTo>
                <a:lnTo>
                  <a:pt x="441" y="323"/>
                </a:lnTo>
                <a:lnTo>
                  <a:pt x="514" y="362"/>
                </a:lnTo>
                <a:lnTo>
                  <a:pt x="594" y="400"/>
                </a:lnTo>
                <a:lnTo>
                  <a:pt x="681" y="435"/>
                </a:lnTo>
                <a:lnTo>
                  <a:pt x="775" y="473"/>
                </a:lnTo>
                <a:lnTo>
                  <a:pt x="876" y="508"/>
                </a:lnTo>
                <a:lnTo>
                  <a:pt x="984" y="546"/>
                </a:lnTo>
                <a:lnTo>
                  <a:pt x="1098" y="577"/>
                </a:lnTo>
                <a:lnTo>
                  <a:pt x="1224" y="612"/>
                </a:lnTo>
                <a:lnTo>
                  <a:pt x="1352" y="643"/>
                </a:lnTo>
                <a:lnTo>
                  <a:pt x="1495" y="671"/>
                </a:lnTo>
                <a:lnTo>
                  <a:pt x="1641" y="699"/>
                </a:lnTo>
                <a:lnTo>
                  <a:pt x="1797" y="723"/>
                </a:lnTo>
                <a:lnTo>
                  <a:pt x="1961" y="744"/>
                </a:lnTo>
                <a:lnTo>
                  <a:pt x="2134" y="761"/>
                </a:lnTo>
                <a:lnTo>
                  <a:pt x="2319" y="775"/>
                </a:lnTo>
                <a:lnTo>
                  <a:pt x="2510" y="786"/>
                </a:lnTo>
                <a:lnTo>
                  <a:pt x="2711" y="793"/>
                </a:lnTo>
                <a:lnTo>
                  <a:pt x="2923" y="796"/>
                </a:lnTo>
                <a:lnTo>
                  <a:pt x="3135" y="793"/>
                </a:lnTo>
                <a:lnTo>
                  <a:pt x="3334" y="786"/>
                </a:lnTo>
                <a:lnTo>
                  <a:pt x="3525" y="775"/>
                </a:lnTo>
                <a:lnTo>
                  <a:pt x="3706" y="761"/>
                </a:lnTo>
                <a:lnTo>
                  <a:pt x="3879" y="744"/>
                </a:lnTo>
                <a:lnTo>
                  <a:pt x="4039" y="723"/>
                </a:lnTo>
                <a:lnTo>
                  <a:pt x="4192" y="699"/>
                </a:lnTo>
                <a:lnTo>
                  <a:pt x="4338" y="671"/>
                </a:lnTo>
                <a:lnTo>
                  <a:pt x="4474" y="643"/>
                </a:lnTo>
                <a:lnTo>
                  <a:pt x="4599" y="612"/>
                </a:lnTo>
                <a:lnTo>
                  <a:pt x="4721" y="577"/>
                </a:lnTo>
                <a:lnTo>
                  <a:pt x="4832" y="546"/>
                </a:lnTo>
                <a:lnTo>
                  <a:pt x="4933" y="508"/>
                </a:lnTo>
                <a:lnTo>
                  <a:pt x="5030" y="473"/>
                </a:lnTo>
                <a:lnTo>
                  <a:pt x="5117" y="435"/>
                </a:lnTo>
                <a:lnTo>
                  <a:pt x="5200" y="400"/>
                </a:lnTo>
                <a:lnTo>
                  <a:pt x="5277" y="362"/>
                </a:lnTo>
                <a:lnTo>
                  <a:pt x="5343" y="323"/>
                </a:lnTo>
                <a:lnTo>
                  <a:pt x="5405" y="289"/>
                </a:lnTo>
                <a:lnTo>
                  <a:pt x="5461" y="254"/>
                </a:lnTo>
                <a:lnTo>
                  <a:pt x="5513" y="219"/>
                </a:lnTo>
                <a:lnTo>
                  <a:pt x="5555" y="184"/>
                </a:lnTo>
                <a:lnTo>
                  <a:pt x="5631" y="125"/>
                </a:lnTo>
                <a:lnTo>
                  <a:pt x="5683" y="76"/>
                </a:lnTo>
                <a:lnTo>
                  <a:pt x="5718" y="35"/>
                </a:lnTo>
                <a:lnTo>
                  <a:pt x="5746" y="0"/>
                </a:lnTo>
                <a:lnTo>
                  <a:pt x="5746" y="2159"/>
                </a:lnTo>
                <a:close/>
              </a:path>
            </a:pathLst>
          </a:custGeom>
          <a:gradFill rotWithShape="0">
            <a:gsLst>
              <a:gs pos="0">
                <a:srgbClr val="0056d4"/>
              </a:gs>
              <a:gs pos="100000">
                <a:srgbClr val="002a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 ЧИСЛЕ ЗАБОЛЕВАНИЙ,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РЕГИСТРИРОВАННЫХ В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-9360" y="2707920"/>
            <a:ext cx="91533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й Иванович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ьков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 ноября 2019 года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Москв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" name="Прямоугольник 32"/>
          <p:cNvSpPr/>
          <p:nvPr/>
        </p:nvSpPr>
        <p:spPr>
          <a:xfrm>
            <a:off x="468360" y="692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611280" y="1989000"/>
            <a:ext cx="806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В данный  отчет  включаются сведения об  общем числе зарегистрированных в данном  учреждении у пациентов  заболеваний и о больных с заболеваниям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по поводу которых осуществляется диспансеризац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7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1601640" y="1724040"/>
            <a:ext cx="59407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5" name="Прямоугольник 4"/>
          <p:cNvSpPr/>
          <p:nvPr/>
        </p:nvSpPr>
        <p:spPr>
          <a:xfrm>
            <a:off x="163440" y="789120"/>
            <a:ext cx="8839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Минздрава от 29.03.19 г. № 173н и от 02.04.19 г. № 190н не регламентируют порядок статистического учета, который осуществляется в соответствии с МКБ-10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, классифицируемые рубриками R73.0 «Нарушение толерантности к глюкозе» и R73.9 «Неуточненная гипергликемия» относятся к классу XVIII «Симптомы, признаки и отклонения от нормы, выявленные при клинических и лабораторных исследованиях»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остояния являются: первое – результатом проведенного теста на толерантность к глюкозе, а второе – результатом лабораторного исследования крови на содержание глюкозы. Оба результата не являются диагнозом какого-либо заболевания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характерных жалоб, объективных данных и данных дополнительных инструментальных и лабораторных исследований должны быть установлены следующие диагнозы: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озрение на сахарный диабет – код Z03.8 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ахарный диабет – коды Е10-Е14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ругие заболевания с гипергликемией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конкретными диагнозами, а не симптомами (!) и должны быть зарегистрированы в форме № 12 и взяты под диспансерное наблюдение.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циентов с любыми результатами анализов, исследований, проб без установления  диагноза или с симптомами не регистрируют в форме № 12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касается рубрики R54 «Старость, или старческая астения». Данное состояние является симптомом и может быть указано только в качестве предварительного диагноза. В госпитальной практике в течение трех дней должен быть установлен клинический диагноз в соответствии с правилами МКБ-10 (том 2, стр. 107)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симптома в качестве основного состояния в конце эпизода оказания медицинской помощи в соответствии с МКБ-10 является для врача-статистика или медицинского статистика основанием для возврата медицинской карты стационарного больного и карты выбывшего из стационара лечащему врачу для исправления. Данные документы не должны быть приняты в статистическую  разработку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заболеваемости рубрика I69 «Последствия цереброваскулярных болезней» не используется, так как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лючает в себя несколько различных нозологических единиц (энцефалопатии, нарушения речи, параличи, парезы и т.д.), каждая из которых должна быть выставлена в качестве самостоятельного заболевания, зарегистрирована в форме №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и при необходимости взята под диспансерное наблюдение соответствующим  специалистом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смертности рубрика I69 используется без расшифровки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7" name="Прямоугольник 1"/>
          <p:cNvSpPr/>
          <p:nvPr/>
        </p:nvSpPr>
        <p:spPr>
          <a:xfrm>
            <a:off x="684360" y="765000"/>
            <a:ext cx="7848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Юрий Иванович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ьков</a:t>
            </a:r>
            <a:br>
              <a:rPr sz="4000"/>
            </a:br>
            <a:r>
              <a:rPr b="1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ведующий отделением статистики  специализированных служб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 05 февраля 2020 года</a:t>
            </a:r>
            <a:br>
              <a:rPr sz="3600"/>
            </a:b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8-495-618-31-83 доп. 220, 236, 235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 06 февраля 2020 го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OskovYI@mail.ru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0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611280" y="1341360"/>
            <a:ext cx="806436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 форму  включают  один  раз в  год сведения об основном, фоновом,  конкурирующем  и сопутствующем заболеваниях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не включают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, имеющие  два  и более  заболевания, показываются по соот-ветствующим  строкам по  числу  выявленных  и  зарегистрированных забо-леваний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3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611280" y="1341360"/>
            <a:ext cx="806436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заполняется на основании первичной учетной медицинской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кумент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755640" y="1484280"/>
            <a:ext cx="74883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заболеваниях с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ами по МКБ-10,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меченных  звездочкой (*)</a:t>
            </a:r>
            <a:br>
              <a:rPr sz="24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755640" y="1484280"/>
            <a:ext cx="7488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подозрении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аболевание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0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684360" y="1557360"/>
            <a:ext cx="79200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0 – заболеваемость всего населения 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1 – заболеваемость сельского населе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менения в форме 12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 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6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1. Дети (0-14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1000)  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" name="Таблица 1" descr=""/>
          <p:cNvPicPr/>
          <p:nvPr/>
        </p:nvPicPr>
        <p:blipFill>
          <a:blip r:embed="rId1"/>
          <a:stretch/>
        </p:blipFill>
        <p:spPr>
          <a:xfrm>
            <a:off x="628560" y="2603520"/>
            <a:ext cx="7886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0" name="Прямоугольник 21"/>
          <p:cNvSpPr/>
          <p:nvPr/>
        </p:nvSpPr>
        <p:spPr>
          <a:xfrm>
            <a:off x="755640" y="620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6060"/>
                </a:solidFill>
                <a:latin typeface="-윤고딕140"/>
              </a:rPr>
              <a:t>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2. Дети первых трех лет жизни                     (1500)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101" name="Таблица 1" descr=""/>
          <p:cNvPicPr/>
          <p:nvPr/>
        </p:nvPicPr>
        <p:blipFill>
          <a:blip r:embed="rId1"/>
          <a:stretch/>
        </p:blipFill>
        <p:spPr>
          <a:xfrm>
            <a:off x="749160" y="1006560"/>
            <a:ext cx="757260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2. Дети первых трех лет жизн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굴림"/>
                <a:ea typeface="-윤고딕140"/>
              </a:rPr>
              <a:t>таблица 160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Дети первого года жизни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Факторы, влияющие на состояние здоровья населения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и обращения в медицинские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(с профилактической и иной целью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굴림"/>
                <a:ea typeface="-윤고딕140"/>
              </a:rPr>
              <a:t>Таблица заполняется по обращениям детей первого года жизн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" name="Прямоугольник 20"/>
          <p:cNvSpPr/>
          <p:nvPr/>
        </p:nvSpPr>
        <p:spPr>
          <a:xfrm>
            <a:off x="900000" y="1557360"/>
            <a:ext cx="7775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 ЧИСЛЕ ЗАБОЛЕВАНИЙ, ЗАРЕГИСТРИРОВАННЫХ У                   ПАЦИЕНТОВ, ПРОЖИВАЮЩИХ          В РАЙОНЕ ОБСЛУЖИВАНИЯ                МЕДИЦИНСКОЙ ОРГАНИЗАЦИИ </a:t>
            </a:r>
            <a:br>
              <a:rPr sz="3200"/>
            </a:br>
            <a:r>
              <a:rPr b="1" i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" name="Прямоугольник 21"/>
          <p:cNvSpPr/>
          <p:nvPr/>
        </p:nvSpPr>
        <p:spPr>
          <a:xfrm>
            <a:off x="1332000" y="620640"/>
            <a:ext cx="67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Е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ТИСТИЧЕСКОЕ НАБЛЮДЕНИ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№1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107" name="Прямоугольник 2" descr=""/>
          <p:cNvPicPr/>
          <p:nvPr/>
        </p:nvPicPr>
        <p:blipFill>
          <a:blip r:embed="rId1"/>
          <a:stretch/>
        </p:blipFill>
        <p:spPr>
          <a:xfrm>
            <a:off x="536400" y="2779560"/>
            <a:ext cx="81378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9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3. Дети  (15-17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2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Таблица 4" descr=""/>
          <p:cNvPicPr/>
          <p:nvPr/>
        </p:nvPicPr>
        <p:blipFill>
          <a:blip r:embed="rId1"/>
          <a:stretch/>
        </p:blipFill>
        <p:spPr>
          <a:xfrm>
            <a:off x="628560" y="2535120"/>
            <a:ext cx="78868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굴림"/>
              </a:rPr>
              <a:t>       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4. Взрослые 18 лет и боле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3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Таблица 1" descr=""/>
          <p:cNvPicPr/>
          <p:nvPr/>
        </p:nvPicPr>
        <p:blipFill>
          <a:blip r:embed="rId1"/>
          <a:stretch/>
        </p:blipFill>
        <p:spPr>
          <a:xfrm>
            <a:off x="628560" y="2822400"/>
            <a:ext cx="78868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5. Взрослые старше трудоспособного возраста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(с 55 лет у женщин и с 60 лет у мужчин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4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Таблица 1" descr=""/>
          <p:cNvPicPr/>
          <p:nvPr/>
        </p:nvPicPr>
        <p:blipFill>
          <a:blip r:embed="rId1"/>
          <a:stretch/>
        </p:blipFill>
        <p:spPr>
          <a:xfrm>
            <a:off x="628560" y="2749680"/>
            <a:ext cx="78868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276280"/>
            <a:ext cx="8064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ение формы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250920" y="2421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а 8 трактовка не изменена???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468360" y="-633240"/>
            <a:ext cx="820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– (переходные дети в подростки) + (впервые взятые на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Д-учет в текущем году) + (вновь прибывшие) + (ранее стоящие на Д-учете «оторвавшиеся» 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– (переходные подростки во взрослые) + (впервые взятые на Д-учет в текущем году) + (вновь прибывшие) + (ранее стоящие на Д-учете «оторвавшиеся» 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прибывшие) + (ранее стоящие на Д-учете «оторвавшиеся» и кому диагноз был ранее установлен, но на Д-учете не состоял) + (переходные из подростков, 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468360" y="2852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- трактовка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468360" y="162864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– снято с диспансерного наблюдения (по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еход в другую возрастную группу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входит в графу 14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250920" y="2060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ответственно графы 8 и графы 14 не создают  движение диспансерной группы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всем строкам таблиц 1000, 2000, 3000, 4000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из графы 8 минус графа 14 равно графе 15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ом числе и строкам раздела 6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0" name="Прямоугольник 31"/>
          <p:cNvSpPr/>
          <p:nvPr/>
        </p:nvSpPr>
        <p:spPr>
          <a:xfrm>
            <a:off x="468360" y="8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95280" y="907920"/>
            <a:ext cx="8353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-болеваний, зарегистрированных  у  пациентов, проживающих в районе обслужива-ния  медицинской организации»,  составляется  всеми  медицинскими организаци-ями, входящие в номенклатуру медицинских организаций, оказывающие  медицин-скую  помощь  в  амбулаторных  условия (приказ Минздрава  России  от 6  августа  2013 г.  № 529н «Об утверждении номенклатуры медицинских организаций», заре-гистрирован Министерством юстиции Российской Федерации 13.09.2013 № 29950,в соответствии с приказом от 21 июля 2016 года № 355 «Об утверждении статисти-ческого  инструментария  для  организации  Министерством здравоохранения Рос-сийской Федерации федерального  статистического  наблюдения  в  сфере  охраны здоровья» Федеральной службы государственной статистик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250920" y="2060640"/>
            <a:ext cx="87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5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ая таблица не сравнивается с  другим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ми  формы 12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другими формами годового отчет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68580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43000" y="1699920"/>
            <a:ext cx="6858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001, 1002, 1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601, 1650, 1700, 1800, 1900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2001, 2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3002, 3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4001, 400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100,2100,3100,4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заполняются в соответствии с требованиями по заполнению формы 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250920" y="2060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2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250920" y="76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2000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95280" y="1557360"/>
          <a:ext cx="8424720" cy="4032360"/>
        </p:xfrm>
        <a:graphic>
          <a:graphicData uri="http://schemas.openxmlformats.org/drawingml/2006/table">
            <a:tbl>
              <a:tblPr/>
              <a:tblGrid>
                <a:gridCol w="1606680"/>
                <a:gridCol w="482400"/>
                <a:gridCol w="541440"/>
                <a:gridCol w="465120"/>
                <a:gridCol w="463680"/>
                <a:gridCol w="541080"/>
                <a:gridCol w="540000"/>
                <a:gridCol w="542880"/>
                <a:gridCol w="620640"/>
                <a:gridCol w="622440"/>
                <a:gridCol w="465120"/>
                <a:gridCol w="463320"/>
                <a:gridCol w="622440"/>
                <a:gridCol w="447480"/>
              </a:tblGrid>
              <a:tr h="18720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(из гр. 9)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7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Прямоугольник 4"/>
          <p:cNvSpPr/>
          <p:nvPr/>
        </p:nvSpPr>
        <p:spPr>
          <a:xfrm>
            <a:off x="468360" y="5300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следует читать -  выявлено при диспансеризации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971640" y="1557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с впервые в жизни ..» (гр.9) – «из заболеваний … юноши»  (гр.13) =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  -  не должно быть отрицательных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й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755640" y="2492280"/>
            <a:ext cx="756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11280" y="1246320"/>
          <a:ext cx="7993080" cy="448308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514440"/>
                <a:gridCol w="441360"/>
                <a:gridCol w="439560"/>
                <a:gridCol w="514440"/>
                <a:gridCol w="512640"/>
                <a:gridCol w="514440"/>
                <a:gridCol w="588960"/>
                <a:gridCol w="590400"/>
                <a:gridCol w="439920"/>
                <a:gridCol w="441360"/>
                <a:gridCol w="588960"/>
                <a:gridCol w="425520"/>
              </a:tblGrid>
              <a:tr h="12204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10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00-Е8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3560" rIns="435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мните о данных строчках</a:t>
                      </a:r>
                      <a:endParaRPr b="1" lang="en-US" sz="1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 предстатель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40-N4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оброкачественная дисплаз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молоч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оспалительные болезни женских тазовых орган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-N73, 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5-N7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560" rIns="4356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сальпингит и оофор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ндометриоз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розия и эктропион шейки матк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8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1-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858960" y="1773360"/>
            <a:ext cx="74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468360" y="765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оответствии с Порядком заполнения формы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го статистического наблюдения №12</a:t>
            </a:r>
            <a:br>
              <a:rPr sz="2800"/>
            </a:br>
            <a:r>
              <a:rPr b="0" lang="ru-RU" sz="2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539640" y="386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395280" y="1341360"/>
            <a:ext cx="84247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-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е 4 – всего, и только вновь выявленная в текущем году в </a:t>
            </a:r>
            <a:br>
              <a:rPr sz="2200"/>
            </a:b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вичной  заболеваемости  (графы 9 и 11  у  подростков, графа 9 у взрослых) соответствующих  таблиц.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539640" y="1268280"/>
            <a:ext cx="8064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ных, поступивших в стаци-онар, минуя поликлинику, следует включать в отчёт на общих основания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н амбулаторного пациента  может  быть  заполнен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-дан в поликлини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заполнен в поликлинике на основании выписки из кар-ты стационарного больног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3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412920" y="836640"/>
            <a:ext cx="84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ганизация, имеющая в своем составе подразделения, оказывающие медицинскую помощь в амбулаторных условиях  и ведущая  только консультативный прием, составляет форму по соответствующим строкам лишь в том случае, если в дан-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организации у пациентов  не только выявляются  эти заболевания, но  и осуществляется их лечение,  а также  и диспансерное наблюдение за пациен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611280" y="1197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аждый случай острого заболевания зарегистрированный в текущем году не подлежит перерегистрации в следующем. В заболеваемость  не следует вклю-чать заболевания, коды которых отмечены «звездочкой» (альтерна-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ивные), используемые только для специальных разработок по проявлениям ос-новного заболевания и только вместе с кодом основного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755640" y="105264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которые острые  заболевания  и состояния (например: острый отит, ос-трый миокардит, острые  респираторные  инфекции  верхних и нижних  дыха-тельных  путей,  грипп, а  также травмы, за  исключением  по следствий и др.) регистрируются столько раз, сколько они возникают в течение отчетного года. При этом графа 4 должна быть равна  графе  9  по  соответствующим  строкам  таблиц 1000, 1500, 2000, 3000 и  4000. На  начало года по данным строкам 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684360" y="134136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 сверять данные отдельных строк с профильными специалис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1116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468360" y="1773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9.2.1, 10.1, 10.4.1.1, 10.4.2, 10.4.3, 10.4.4, 10.5.1, 10.5.2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5.3, 10.6.1, 10.6.2, 10.6.3, 10.6.4, 10.6.7, 11.1, 11.1.1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1.1.2, 11.2, 11.3, 11.4, 17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строке 20.0 может быть неравенство на коды Т90-Т98, больных  вибрационной  болезнью  (др.  профзаболевания) и больных получающих лечение по травме больше год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, которое треб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го     поясне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 2.2,  7.1,  7.1.1,  7.1.2,  12.9.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684360" y="278136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МНИТЕ О ПРЕЕМСТВЕННОСТИ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755640" y="105264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клинику, в больницу, то «Талон  амбулаторного пациента» (далее - Талон) заполняют в поликлинике после выписки пациента из стационара на основании "Выпис- ного эпикриза". При этом если пациент пришел на прием, то в Талоне произ-водится отметка о регистрации всех заболеваний для включения  этих сведе-ний в форму федерального  статистического наблюдения № 12 и вносится от-метка о посещении. Если  пациент на  прием  не  пришел, то в  Талоне регис-трируются все заболевания без отметки о посещении. В Талоне такж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лжно быть зарегистрировано  обращение  по поводу  заболевания, включа-ющее в себя одно или несколько посещений, в результат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торых цель обращения достигнута. При  заполнении  Талона  врач   также делает отметки о дате впервые выявленного основного 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чета. Эта данные  необходимы для заполнения формы федерального статис-тического наблюдения № 12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900000" y="1628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. Некоторые инфекционные и паразитарные болезни. А00-И9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00-D48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4" name="Прямоугольник 2"/>
          <p:cNvSpPr/>
          <p:nvPr/>
        </p:nvSpPr>
        <p:spPr>
          <a:xfrm>
            <a:off x="468360" y="306864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4.2 включает в себя коды D65-D69 и включает в себя тромбоцитопени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омбоцитопатии, аллергический васкулит (код D69.X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3. Болезни крови, кроветворных органов и отдельные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я, вовлекающие иммунный механизм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D50-D8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826920" y="1341360"/>
            <a:ext cx="7921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4. Болезни эндокринной системы, расстройства питания и наруше-ния обмена веществ. Е00-Е9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-никновения нанизма (карликовости)  могут  быть различны, соответственно  и кодировать  его  нужно  по-разному. Пример:  гипопитуитаризм вызванный ле-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755640" y="21337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5. Психические расстройства и расстройства повед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ы 4, 9, 15 формы 12 равны соответствующим графам и строка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 10, 11, 36, 37 (за минусом *) и с обязательным движение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й группы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поряжение МЗ РФ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89928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08000" y="1557360"/>
            <a:ext cx="8496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я форма 12 формируется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основании сведений о пациентах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01 января по 31 декабря 2019 года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!!</a:t>
            </a:r>
            <a:endParaRPr b="1" lang="en-US" sz="1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684360" y="62064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Деменция 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менция при других болезнях, классифицированных в других рубрика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G3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чке 7.0, по строке 6.0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1403280" y="981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6. Болезни нервной системы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00-G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684360" y="191628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ии регуляции сердечно-сосудистой, дыхательной и др. систем организма, мо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ут быть синдромом таких заболеваний, как: гипертоническая болезнь, хрони-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шеми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сердца, эндокринные нарушения и т.д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этом случа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учет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лежит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новно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е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егетативной нервной системы кодируются G90.8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матоформн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функция вегетатив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нервной системы F45.3 (диагноз ставит психиатр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7.6 и 7.9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больш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ммы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строчников. 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х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письмо МЗиСР РФ от 26 апреля 2011 г. №14-9/10/2-415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7" name="Прямоугольник 1"/>
          <p:cNvSpPr/>
          <p:nvPr/>
        </p:nvSpPr>
        <p:spPr>
          <a:xfrm>
            <a:off x="755640" y="549360"/>
            <a:ext cx="77770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.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 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9" name="Прямоугольник 1"/>
          <p:cNvSpPr/>
          <p:nvPr/>
        </p:nvSpPr>
        <p:spPr>
          <a:xfrm>
            <a:off x="1476360" y="112392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468360" y="253692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2" name="Прямоугольник 1"/>
          <p:cNvSpPr/>
          <p:nvPr/>
        </p:nvSpPr>
        <p:spPr>
          <a:xfrm>
            <a:off x="1187280" y="1413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8. Болезни уха и сосцевидного отростка. Н60-Н9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3" name="Прямоугольник 2"/>
          <p:cNvSpPr/>
          <p:nvPr/>
        </p:nvSpPr>
        <p:spPr>
          <a:xfrm>
            <a:off x="900000" y="3075120"/>
            <a:ext cx="74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71640" y="90792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00-I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684360" y="249228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8" name="Прямоугольник 1"/>
          <p:cNvSpPr/>
          <p:nvPr/>
        </p:nvSpPr>
        <p:spPr>
          <a:xfrm>
            <a:off x="611280" y="2637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: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с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ой гипертензие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I67.2; ил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 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2 талона (I67.2 и  I10) разносятся по двум строкам – строк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строка 10.3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0" name="Прямоугольник 1"/>
          <p:cNvSpPr/>
          <p:nvPr/>
        </p:nvSpPr>
        <p:spPr>
          <a:xfrm>
            <a:off x="611280" y="2565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2" name="Прямоугольник 1"/>
          <p:cNvSpPr/>
          <p:nvPr/>
        </p:nvSpPr>
        <p:spPr>
          <a:xfrm>
            <a:off x="1042920" y="213372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4" name="Прямоугольник 1"/>
          <p:cNvSpPr/>
          <p:nvPr/>
        </p:nvSpPr>
        <p:spPr>
          <a:xfrm>
            <a:off x="900000" y="28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971640" y="692280"/>
            <a:ext cx="77770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формируется по 6 раздела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0-14 лет включительно) - 1000, 1001, 1002, 1003, 1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ых трех лет жизни - 1500, 1600, 1601, 1650, 1700, 1800, 190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2000, 2001, 2003, 2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(18 лет и более) - 3000, 3002, 3003, 3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 старше  трудоспособного  возраста (с  55 лет  у женщин и 60 лет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мужчин) - 4000, 4001, 4003, 4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изация студентов высших учебных заведений – 5000, 5100.                                     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6" name="Прямоугольник 1"/>
          <p:cNvSpPr/>
          <p:nvPr/>
        </p:nvSpPr>
        <p:spPr>
          <a:xfrm>
            <a:off x="755640" y="2637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8" name="Прямоугольник 1"/>
          <p:cNvSpPr/>
          <p:nvPr/>
        </p:nvSpPr>
        <p:spPr>
          <a:xfrm>
            <a:off x="900000" y="2781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ы заболеваний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1042920" y="2205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8.2 - не включать флебит портальной вены (K75.1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1042920" y="29988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10.6.7 заполняются графы 4, 9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1187280" y="1197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0. Болезни органов дых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J00-J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826920" y="2690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755640" y="1989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невмония - графа 4 = графе 9, графа 8 = графе 1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900000" y="227664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этим строкам графы 4 и 9 таблиц 1000, 2000, 3000 и 4000 равны.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1692360" y="1125360"/>
            <a:ext cx="61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K00-K93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755640" y="27813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6" name="Прямоугольник 1"/>
          <p:cNvSpPr/>
          <p:nvPr/>
        </p:nvSpPr>
        <p:spPr>
          <a:xfrm>
            <a:off x="611280" y="1268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наблюдению множественным прогрессирующим кариесом 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971640" y="692280"/>
            <a:ext cx="7777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28560" y="2276640"/>
          <a:ext cx="7886880" cy="3025440"/>
        </p:xfrm>
        <a:graphic>
          <a:graphicData uri="http://schemas.openxmlformats.org/drawingml/2006/table">
            <a:tbl>
              <a:tblPr/>
              <a:tblGrid>
                <a:gridCol w="1503360"/>
                <a:gridCol w="452520"/>
                <a:gridCol w="506520"/>
                <a:gridCol w="434880"/>
                <a:gridCol w="434880"/>
                <a:gridCol w="506520"/>
                <a:gridCol w="506520"/>
                <a:gridCol w="506160"/>
                <a:gridCol w="582840"/>
                <a:gridCol w="582480"/>
                <a:gridCol w="433440"/>
                <a:gridCol w="434880"/>
                <a:gridCol w="582840"/>
                <a:gridCol w="419040"/>
              </a:tblGrid>
              <a:tr h="233280"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Calibri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9160" rIns="29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1116000" y="1197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2. Болезни кожи и подкожной клетчатки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L00-L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1042920" y="20606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3. Болезни костно-мышечной системы и соединительной ткани. М00-М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755640" y="2997360"/>
            <a:ext cx="7632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колиоз – М4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2" name="Прямоугольник 1"/>
          <p:cNvSpPr/>
          <p:nvPr/>
        </p:nvSpPr>
        <p:spPr>
          <a:xfrm>
            <a:off x="826920" y="1989000"/>
            <a:ext cx="7705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4" name="Прямоугольник 1"/>
          <p:cNvSpPr/>
          <p:nvPr/>
        </p:nvSpPr>
        <p:spPr>
          <a:xfrm>
            <a:off x="826920" y="1844640"/>
            <a:ext cx="8066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М42.1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-윤고딕140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 у взрослы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клинические рекоменд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(М48.0, М 54, М50.0, М50.1, М50.2, М50.3, М50.8, М50.9, М51.0, М51.1, М51.2, М51.3, М51.8, М51.9, М53.2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6" name="Прямоугольник 1"/>
          <p:cNvSpPr/>
          <p:nvPr/>
        </p:nvSpPr>
        <p:spPr>
          <a:xfrm>
            <a:off x="1258920" y="1341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N00-N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684360" y="261288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денома простаты – N4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9" name="Прямоугольник 1"/>
          <p:cNvSpPr/>
          <p:nvPr/>
        </p:nvSpPr>
        <p:spPr>
          <a:xfrm>
            <a:off x="826920" y="206064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8 - эндометриоз с Д-учёта снимается посмертно или в глубокой менопауз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9 - расстройства менструаций – на Д-учёт берётся олиго- и аменорея 1, 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1" name="Прямоугольник 1"/>
          <p:cNvSpPr/>
          <p:nvPr/>
        </p:nvSpPr>
        <p:spPr>
          <a:xfrm>
            <a:off x="90000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5. Беременность, роды и послеродовый период. О00-О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826920" y="26128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900000" y="105264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6. Отдельные состояния, возникающие в перинатальном периоде. Р00-Р96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755640" y="292104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аблице 1000 коды МКБ-10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5-Р9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7" name="Прямоугольник 1"/>
          <p:cNvSpPr/>
          <p:nvPr/>
        </p:nvSpPr>
        <p:spPr>
          <a:xfrm>
            <a:off x="838080" y="148428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атков с прошлого года нет (0) т.к. за год формируется патология, которая кодируется другим классом. Данная строка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клинике кодируем только то, что вынесено в диагноз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 текстовые описания кодированию не подлежат.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9" name="Прямоугольник 1"/>
          <p:cNvSpPr/>
          <p:nvPr/>
        </p:nvSpPr>
        <p:spPr>
          <a:xfrm>
            <a:off x="755640" y="9349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Q00-Q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826920" y="256536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8. Симптомы, признаки и отклонения от нормы, выявленные пр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их и лабораторных исследованиях, не классифицированные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других рубриках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R00-R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395280" y="387504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8 класса (стр. 19.0), не должны регистрироваться как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3" name="Прямоугольник 1"/>
          <p:cNvSpPr/>
          <p:nvPr/>
        </p:nvSpPr>
        <p:spPr>
          <a:xfrm>
            <a:off x="611280" y="1413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S00-T98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539640" y="2781360"/>
            <a:ext cx="820908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1187280" y="119700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году (+ и -)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= графам 5+6 в таблице 1000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ечение года, из графы 4 «всего» (+ и -);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6" name="Прямоугольник 1"/>
          <p:cNvSpPr/>
          <p:nvPr/>
        </p:nvSpPr>
        <p:spPr>
          <a:xfrm>
            <a:off x="684360" y="177336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ы шифрования последствий травм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ая посттравматическая  головная боль G44.3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вматическая  транзиторная  церебральная  ишемия  G45.8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8" name="Прямоугольник 1"/>
          <p:cNvSpPr/>
          <p:nvPr/>
        </p:nvSpPr>
        <p:spPr>
          <a:xfrm>
            <a:off x="971640" y="112536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755640" y="28749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971640" y="1125360"/>
            <a:ext cx="770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 2000, 3000,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1.1, 5.11, 5.12, 5.13, 5.14, 5.15, 7.8.2, 18.2, 18.5, 18.6, 18.7, 18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е 9 – (Х – должен стоять 0) стоит число – представить пояснительную записку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ица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7, 5.8, 7.10, 3.1, 15.9, 15.1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а 9 – (Х – должен стоять 0) стоит число – проверить первичную документацию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2" name="Прямоугольник 2"/>
          <p:cNvSpPr/>
          <p:nvPr/>
        </p:nvSpPr>
        <p:spPr>
          <a:xfrm>
            <a:off x="755640" y="28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4" name="Прямоугольник 1"/>
          <p:cNvSpPr/>
          <p:nvPr/>
        </p:nvSpPr>
        <p:spPr>
          <a:xfrm>
            <a:off x="755640" y="1989000"/>
            <a:ext cx="777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нутриформенный, межформенный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межгодовой контроли</a:t>
            </a:r>
            <a:br>
              <a:rPr sz="40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907920"/>
            <a:ext cx="7886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Контроль таблиц </a:t>
            </a:r>
            <a:br>
              <a:rPr sz="4000"/>
            </a:br>
            <a:r>
              <a:rPr b="0" lang="en-US" sz="4000" spc="-1" strike="noStrike">
                <a:solidFill>
                  <a:srgbClr val="606060"/>
                </a:solidFill>
                <a:latin typeface="굴림"/>
              </a:rPr>
              <a:t>1000, 2000, 3000, 4000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в </a:t>
            </a:r>
            <a:r>
              <a:rPr b="1" lang="en-US" sz="4000" spc="-1" strike="noStrike">
                <a:solidFill>
                  <a:srgbClr val="c00000"/>
                </a:solidFill>
                <a:latin typeface="굴림"/>
              </a:rPr>
              <a:t>Excel</a:t>
            </a: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9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0" name="Рисунок 1" descr=""/>
          <p:cNvPicPr/>
          <p:nvPr/>
        </p:nvPicPr>
        <p:blipFill>
          <a:blip r:embed="rId1"/>
          <a:stretch/>
        </p:blipFill>
        <p:spPr>
          <a:xfrm>
            <a:off x="250920" y="1776240"/>
            <a:ext cx="8642160" cy="33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2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3" name="Рисунок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5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6" name="Рисунок 5" descr=""/>
          <p:cNvPicPr/>
          <p:nvPr/>
        </p:nvPicPr>
        <p:blipFill>
          <a:blip r:embed="rId1"/>
          <a:stretch/>
        </p:blipFill>
        <p:spPr>
          <a:xfrm>
            <a:off x="0" y="506520"/>
            <a:ext cx="9109080" cy="63514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0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1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3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4" name="Рисунок 1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63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539640" y="765000"/>
            <a:ext cx="82090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buClr>
                <a:srgbClr val="606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0 - взято под диспансерное наблюдение в течение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ода (+) , из графы 9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1 – выявлено впервые при профосмотре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2 – выявлено  при  диспансеризации определен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упп взрослого населения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аблице 2000 - выявлено  при  диспансеризации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4 – снято с диспансерного наблюдения (по всем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5 – состоит под диспансерным наблюдением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нец отчетного года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ы 7,13,16-в таблице 2000 –все данные о юнош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7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9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0" name="Рисунок 1" descr=""/>
          <p:cNvPicPr/>
          <p:nvPr/>
        </p:nvPicPr>
        <p:blipFill>
          <a:blip r:embed="rId1"/>
          <a:stretch/>
        </p:blipFill>
        <p:spPr>
          <a:xfrm>
            <a:off x="19080" y="506520"/>
            <a:ext cx="912492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2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3" name="Рисунок 1" descr=""/>
          <p:cNvPicPr/>
          <p:nvPr/>
        </p:nvPicPr>
        <p:blipFill>
          <a:blip r:embed="rId1"/>
          <a:stretch/>
        </p:blipFill>
        <p:spPr>
          <a:xfrm>
            <a:off x="4680" y="527040"/>
            <a:ext cx="91393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5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6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252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8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9" name="Рисунок 1" descr=""/>
          <p:cNvPicPr/>
          <p:nvPr/>
        </p:nvPicPr>
        <p:blipFill>
          <a:blip r:embed="rId1"/>
          <a:stretch/>
        </p:blipFill>
        <p:spPr>
          <a:xfrm>
            <a:off x="9360" y="503280"/>
            <a:ext cx="913464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1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2" name="Рисунок 1" descr=""/>
          <p:cNvPicPr/>
          <p:nvPr/>
        </p:nvPicPr>
        <p:blipFill>
          <a:blip r:embed="rId1"/>
          <a:stretch/>
        </p:blipFill>
        <p:spPr>
          <a:xfrm>
            <a:off x="31680" y="506520"/>
            <a:ext cx="91123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4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5" name="Рисунок 1" descr=""/>
          <p:cNvPicPr/>
          <p:nvPr/>
        </p:nvPicPr>
        <p:blipFill>
          <a:blip r:embed="rId1"/>
          <a:stretch/>
        </p:blipFill>
        <p:spPr>
          <a:xfrm>
            <a:off x="15840" y="507960"/>
            <a:ext cx="91645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7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63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0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1" name="Рисунок 1" descr=""/>
          <p:cNvPicPr/>
          <p:nvPr/>
        </p:nvPicPr>
        <p:blipFill>
          <a:blip r:embed="rId1"/>
          <a:stretch/>
        </p:blipFill>
        <p:spPr>
          <a:xfrm>
            <a:off x="0" y="495360"/>
            <a:ext cx="918036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3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4" name="Рисунок 1" descr=""/>
          <p:cNvPicPr/>
          <p:nvPr/>
        </p:nvPicPr>
        <p:blipFill>
          <a:blip r:embed="rId1"/>
          <a:stretch/>
        </p:blipFill>
        <p:spPr>
          <a:xfrm>
            <a:off x="12600" y="506520"/>
            <a:ext cx="91314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ГолубевНА</cp:lastModifiedBy>
  <dcterms:modified xsi:type="dcterms:W3CDTF">2019-12-18T10:03:58Z</dcterms:modified>
  <cp:revision>431</cp:revision>
  <dc:subject/>
  <dc:title>슬라이드 1</dc:title>
</cp:coreProperties>
</file>